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3A2-FF7A-4543-A0C1-E7B5CC2D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B53-71C9-4846-9D58-60BE3DBF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2D8-B09E-4D66-A77A-B2A7B2E4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E88-DCC7-4C0D-B99E-EE1E9688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371F-325C-4827-918E-2757E5DD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F48E-D82E-496C-AA41-E8D7A0A2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E8B4-05BD-4451-8841-58F12CA7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5EF9-0F81-431C-B5DB-95B98A7D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241F-ED07-42E1-947F-47790EF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71FB-0068-4AEE-8109-75BC6048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CBB2-C5A3-4656-8162-C1238EA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957-2735-472B-BACD-C09A77F3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AE56-FBEF-4474-8705-17628A51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7609-0645-4039-8CC6-C29A45C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840F-B353-426F-B962-03289114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9908-0F2F-47D5-B9C4-01803C95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1D3F-560C-4EC2-9A8D-EDED7B70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992-699F-4B31-954B-D0521F72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9AE-401C-437F-9FD8-FA4BAFE5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6C5-0DCA-4719-A972-89791894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496-155D-4E13-9C0D-50C9B6B9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F4B-252B-4CFA-ADFC-F5801304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EF5-8789-4A1B-9260-509E992F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27B-608C-4E2F-AD3A-B9176BD4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16D0-2E05-4D3A-8225-BA1BAD56C84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5EBB-550D-41A7-8307-6A00D8242AA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Monday, November 22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l Work:  Bell work:  What does intrinsic motivation and how does it apply to you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ade 6.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Ex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iangles and Ang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son 4.1, 2-3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 Wednesday-Polyg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Wednesday, November 24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l Work:  Today is November 24, the day before Thanksgiving.  What are you thankful for and why?  How can you show your appreciation for the things/people you are thankful fo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ckle Down –Lesson 1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1-22T19:47:22Z</dcterms:modified>
  <cp:revision>68</cp:revision>
  <dc:subject/>
  <dc:title>Slide 1</dc:title>
</cp:coreProperties>
</file>